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media/image11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445-C29F-4595-9AEE-80E29E4A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945-5840-4A77-9FDE-1C698592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D0B-67C2-4121-BF34-3DA3B54F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C1B-55D7-4855-9310-17D3B1E2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B68-4E33-4D5A-BC45-1FD3E6D1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FC4-3A07-466F-ADC0-648CD398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074-EF54-4672-9C28-C3900C78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651-AC1D-41AB-AAC7-B68F26D7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E10-99F7-4098-A617-9797BB9B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31B-43FB-4BC7-82C5-E6E1D015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0CA-E739-49B5-892F-11EA2304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08B-DB5E-4C9D-BDD5-3C0060ED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B584-0F55-49F2-813F-921BB7675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228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ите слова-отгадки с красной строки, через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830160"/>
            <a:ext cx="790236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зрачен, кругл и невел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верей он жить прив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нажмешь – поднимет к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2438280"/>
            <a:ext cx="396252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тичник повадится – жди бе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жим хвостом заметает сл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img524"/>
          <p:cNvPicPr/>
          <p:nvPr/>
        </p:nvPicPr>
        <p:blipFill>
          <a:blip r:embed="rId1"/>
          <a:stretch/>
        </p:blipFill>
        <p:spPr>
          <a:xfrm>
            <a:off x="6553080" y="1066680"/>
            <a:ext cx="1600200" cy="2514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0" y="4038480"/>
            <a:ext cx="3711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 из цветков она берё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сотах копит сладкий мё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img576"/>
          <p:cNvPicPr/>
          <p:nvPr/>
        </p:nvPicPr>
        <p:blipFill>
          <a:blip r:embed="rId2"/>
          <a:stretch/>
        </p:blipFill>
        <p:spPr>
          <a:xfrm>
            <a:off x="4343400" y="2286000"/>
            <a:ext cx="1665360" cy="2271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2"/>
          <p:cNvSpPr/>
          <p:nvPr/>
        </p:nvSpPr>
        <p:spPr>
          <a:xfrm>
            <a:off x="228600" y="5105520"/>
            <a:ext cx="3657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у сказку ты прочтё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хо, тихо, ти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ли- были серый ёж и ег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p408_30"/>
          <p:cNvPicPr/>
          <p:nvPr/>
        </p:nvPicPr>
        <p:blipFill>
          <a:blip r:embed="rId3"/>
          <a:stretch/>
        </p:blipFill>
        <p:spPr>
          <a:xfrm>
            <a:off x="5486400" y="4705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4"/>
          <a:stretch/>
        </p:blipFill>
        <p:spPr>
          <a:xfrm>
            <a:off x="3733920" y="10666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9" dur="500" autoRev="1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0" dur="500" autoRev="1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752480" y="1371600"/>
            <a:ext cx="4572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4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5 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2286000" y="3808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Ответы к те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1371600" y="1600200"/>
            <a:ext cx="62485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99"/>
                </a:solidFill>
                <a:latin typeface="Arial"/>
              </a:rPr>
              <a:t>с. 58 упр.9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447920" y="-152280"/>
            <a:ext cx="45720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землёй птица гнездо свила, яиц нане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g260"/>
          <p:cNvPicPr/>
          <p:nvPr/>
        </p:nvPicPr>
        <p:blipFill>
          <a:blip r:embed="rId1"/>
          <a:stretch/>
        </p:blipFill>
        <p:spPr>
          <a:xfrm>
            <a:off x="6858000" y="152280"/>
            <a:ext cx="1968480" cy="1849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04920" y="1600200"/>
            <a:ext cx="37335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капелька лета на тоненькой н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етут для меня кузовки и лук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g575"/>
          <p:cNvPicPr/>
          <p:nvPr/>
        </p:nvPicPr>
        <p:blipFill>
          <a:blip r:embed="rId2"/>
          <a:stretch/>
        </p:blipFill>
        <p:spPr>
          <a:xfrm>
            <a:off x="4267080" y="1752480"/>
            <a:ext cx="2133720" cy="1971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838080" y="342900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 нет, а хожу; рта нет, а скажу: когда спать, когда вста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j0234131"/>
          <p:cNvPicPr/>
          <p:nvPr/>
        </p:nvPicPr>
        <p:blipFill>
          <a:blip r:embed="rId3"/>
          <a:stretch/>
        </p:blipFill>
        <p:spPr>
          <a:xfrm>
            <a:off x="6934320" y="2362320"/>
            <a:ext cx="2097000" cy="2228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380880" y="5029200"/>
            <a:ext cx="3962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так бы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стоит, а лестница шаг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img574"/>
          <p:cNvPicPr/>
          <p:nvPr/>
        </p:nvPicPr>
        <p:blipFill>
          <a:blip r:embed="rId4"/>
          <a:stretch/>
        </p:blipFill>
        <p:spPr>
          <a:xfrm>
            <a:off x="4876920" y="4648320"/>
            <a:ext cx="36702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500" autoRev="1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3" dur="500" autoRev="1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3" dur="50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4" dur="50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500" autoRev="1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7" dur="500" autoRev="1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8" dur="500" autoRev="1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ерка словарного диктан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762120" y="685800"/>
            <a:ext cx="3047760" cy="1447920"/>
          </a:xfrm>
          <a:prstGeom prst="downArrowCallout">
            <a:avLst>
              <a:gd name="adj1" fmla="val 30251"/>
              <a:gd name="adj2" fmla="val 57008"/>
              <a:gd name="adj3" fmla="val 16667"/>
              <a:gd name="adj4" fmla="val 679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762120" y="685800"/>
            <a:ext cx="294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веряемые безударные  гласные в кор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14400" y="2286000"/>
            <a:ext cx="28195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2514600"/>
            <a:ext cx="2514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в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ч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ж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5257800" y="685800"/>
            <a:ext cx="2819520" cy="1447920"/>
          </a:xfrm>
          <a:prstGeom prst="downArrowCallout">
            <a:avLst>
              <a:gd name="adj1" fmla="val 21296"/>
              <a:gd name="adj2" fmla="val 52739"/>
              <a:gd name="adj3" fmla="val 16667"/>
              <a:gd name="adj4" fmla="val 679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5257800" y="2362320"/>
            <a:ext cx="28195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5334120" y="7621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проверяемые безударные гласные в корн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5562720" y="25909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то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л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80880" y="5334120"/>
            <a:ext cx="8534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какому признаку делили слова по столбик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слова в первом столбике? Как провери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слова во втором столби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итайте отрывок из стихотворения А.С. Пушк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 голубыми не…б…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еликолепными к…в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лестя на со…нце сне… л…ж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орфограммы встретил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акими правилами мы сегодня будем работ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img298"/>
          <p:cNvPicPr/>
          <p:nvPr/>
        </p:nvPicPr>
        <p:blipFill>
          <a:blip r:embed="rId1"/>
          <a:stretch/>
        </p:blipFill>
        <p:spPr>
          <a:xfrm>
            <a:off x="4724280" y="1676520"/>
            <a:ext cx="4038840" cy="43434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7086600" y="2133720"/>
            <a:ext cx="19810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езударные гласные в ко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010280" y="2819520"/>
            <a:ext cx="213372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епроизносимые согласные в ко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6934320" y="3809880"/>
            <a:ext cx="190476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арные соглас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219320" y="289548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6765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48120" y="327672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362320" y="373392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33920" y="37339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1066680" y="4038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Солнце 1"/>
          <p:cNvSpPr/>
          <p:nvPr/>
        </p:nvSpPr>
        <p:spPr>
          <a:xfrm>
            <a:off x="571680" y="357120"/>
            <a:ext cx="928440" cy="9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4 0.14282 C -0.00694 0.03634 0.079 -0.05024 0.18473 -0.05024 L 0.62796 -0.05024 C 0.73369 -0.05024 0.81997 0.03634 0.81997 0.14282 L 0.81997 0.58287 C 0.81997 0.68981 0.73369 0.78009 0.62796 0.78009 L 0.18473 0.78009 C 0.079 0.78009 -0.00694 0.68981 -0.00694 0.58287 Z">
                                      <p:cBhvr>
                                        <p:cTn id="236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0.04445 L 0.77361 0.03634 E">
                                      <p:cBhvr>
                                        <p:cTn id="23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837 0.03379 L 0.79636 0.73726 E">
                                      <p:cBhvr>
                                        <p:cTn id="26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636 0.73726 L -0.01475 0.73726 E">
                                      <p:cBhvr>
                                        <p:cTn id="28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0.7382 L -0.01476 0.04445 E">
                                      <p:cBhvr>
                                        <p:cTn id="30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4 0.37569 C -0.00694 0.21203 0.07917 0.08634 0.18421 0.08634 C 0.29254 0.08634 0.37882 0.21203 0.37882 0.37569 C 0.37882 0.53958 0.46494 0.66551 0.57344 0.66551 C 0.67848 0.66551 0.76476 0.53958 0.76476 0.37569 E">
                                      <p:cBhvr>
                                        <p:cTn id="332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352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4 0.35416 C -0.00694 0.46365 0.07917 0.54838 0.18421 0.54838 C 0.29237 0.54838 0.379 0.46365 0.379 0.35416 C 0.379 0.24398 0.46511 0.15972 0.57327 0.15972 C 0.6783 0.15972 0.76494 0.24398 0.76494 0.35416 E">
                                      <p:cBhvr>
                                        <p:cTn id="353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73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7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Улыбающееся лицо 5"/>
          <p:cNvSpPr/>
          <p:nvPr/>
        </p:nvSpPr>
        <p:spPr>
          <a:xfrm>
            <a:off x="1143000" y="785880"/>
            <a:ext cx="6643800" cy="53578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C:\мама\Мои рисунки\глаза\002.gif"/>
          <p:cNvPicPr/>
          <p:nvPr/>
        </p:nvPicPr>
        <p:blipFill>
          <a:blip r:embed="rId1"/>
          <a:stretch/>
        </p:blipFill>
        <p:spPr>
          <a:xfrm>
            <a:off x="4643280" y="1714680"/>
            <a:ext cx="2214720" cy="1771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мама\Мои рисунки\глаза\002.gif"/>
          <p:cNvPicPr/>
          <p:nvPr/>
        </p:nvPicPr>
        <p:blipFill>
          <a:blip r:embed="rId2"/>
          <a:stretch/>
        </p:blipFill>
        <p:spPr>
          <a:xfrm flipH="1">
            <a:off x="2071800" y="1785960"/>
            <a:ext cx="234288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2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"/>
          <p:cNvSpPr/>
          <p:nvPr/>
        </p:nvSpPr>
        <p:spPr>
          <a:xfrm>
            <a:off x="7000920" y="221472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38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38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0.09305 L -0.57275 0.09305 E">
                                      <p:cBhvr>
                                        <p:cTn id="38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85 C -0.15833 -0.25185 -0.03941 -0.10139 -0.03941 0.08403 C -0.03941 0.26921 -0.15833 0.42014 -0.30347 0.42014 C -0.44844 0.42014 -0.56649 0.26921 -0.56649 0.08403 C -0.56649 -0.10139 -0.44844 -0.25185 -0.30347 -0.25185 Z">
                                      <p:cBhvr>
                                        <p:cTn id="39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85 C -0.16545 -0.25185 -0.05226 -0.09676 -0.05226 0.09421 C -0.05226 0.28518 -0.16545 0.4412 -0.30347 0.4412 C -0.44167 0.4412 -0.554 0.28518 -0.554 0.09421 C -0.554 -0.09676 -0.44167 -0.25185 -0.30347 -0.25185 Z">
                                      <p:cBhvr>
                                        <p:cTn id="39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85 C -0.16285 -0.25185 -0.04809 -0.09931 -0.04809 0.08842 C -0.04809 0.27592 -0.16285 0.42893 -0.30348 0.42893 C -0.44393 0.42893 -0.55816 0.27592 -0.55816 0.08842 C -0.55816 -0.09931 -0.44393 -0.25185 -0.30348 -0.25185 Z">
                                      <p:cBhvr>
                                        <p:cTn id="39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X:\мама\Мои рисунки\глаза\e606b793004ca082c05d3e8d84ef5329.gif"/>
          <p:cNvPicPr/>
          <p:nvPr/>
        </p:nvPicPr>
        <p:blipFill>
          <a:blip r:embed="rId1"/>
          <a:stretch/>
        </p:blipFill>
        <p:spPr>
          <a:xfrm>
            <a:off x="2500200" y="2071800"/>
            <a:ext cx="350064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Улыбающееся лицо 3"/>
          <p:cNvSpPr/>
          <p:nvPr/>
        </p:nvSpPr>
        <p:spPr>
          <a:xfrm>
            <a:off x="1143000" y="785880"/>
            <a:ext cx="6429240" cy="53578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X:\мама\Мои рисунки\глаза\565816535.jpg.gif"/>
          <p:cNvPicPr/>
          <p:nvPr/>
        </p:nvPicPr>
        <p:blipFill>
          <a:blip r:embed="rId1"/>
          <a:stretch/>
        </p:blipFill>
        <p:spPr>
          <a:xfrm flipH="1">
            <a:off x="4357440" y="2143080"/>
            <a:ext cx="2571480" cy="121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X:\мама\Мои рисунки\глаза\565816535.jpg.gif"/>
          <p:cNvPicPr/>
          <p:nvPr/>
        </p:nvPicPr>
        <p:blipFill>
          <a:blip r:embed="rId2"/>
          <a:stretch/>
        </p:blipFill>
        <p:spPr>
          <a:xfrm>
            <a:off x="1714680" y="2143080"/>
            <a:ext cx="2571480" cy="121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32</cp:lastModifiedBy>
  <dcterms:modified xsi:type="dcterms:W3CDTF">2018-11-02T02:28:3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